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D18-C5ED-4010-9CE9-16D9537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4A7-F8C3-4718-AB78-303D4E4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187-71B9-46AF-BE75-6E6E3BEA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B9D-CBCE-438F-9508-C0C57BA7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6347-E9B6-4862-AD7E-7DB06D31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0284-45BD-48D0-B765-5C88A4F2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2CEF-9F08-4177-BCF5-05C8113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53F-EFCF-484E-B683-036B195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ACB-7745-4937-92A6-A11E2B1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77E-471D-44DD-8A94-460FA91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B4B1-21F9-4D2B-9D14-856AC25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07A-6B27-4953-8F43-E501AFF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E876-1FC0-4C5F-995E-B4F3DB1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2E34-0050-4070-9342-4C85ABB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AAE-33E5-465E-82ED-5D1F3B00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967-A5A4-4E6F-8D92-0A85A618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7EFB-90CC-4FF8-8000-DF96E47A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D8BE-B933-47F2-BC3C-76A9A19C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D81B-A811-4525-9FA9-A9D7167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C40E-8042-4700-B2EA-12C3E63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6AC2-276E-4C13-B71D-5FF6F058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C764-6E53-466F-A3D4-A8F47A1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50E-1C92-4C3A-B0BA-E0D624E5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64A2-7BAA-407C-93CD-2E0385F6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BB7D-44B2-42D1-91D3-FFE59AB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716D-D26F-4483-988B-FCDA21C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8EB5-6FAD-4BAA-A069-373C705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B231-2B51-4A1F-A8BF-A9EA0FF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1AD5-6DAD-45AF-AA53-236BC6AE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4204-EB09-4EBA-8364-553E661F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2D41-F7F2-49E6-B220-F5B5D5A3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4428-61DA-45A7-9669-BC9A6F6F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E896-B5C4-446D-A374-54D3D9F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1CF-4256-4C26-8DAD-400812D9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A65B-6EA5-40DD-8DFC-BD308ED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8ADC-3FDD-4409-BAD5-D9E48B05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97EA-AE99-4DF3-B027-C5033FD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B41F-3FD0-46A0-909F-82F83D8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9F5F-FC9C-4D65-9F6D-50F7D44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F13D-6118-4DBF-AEFB-0CB0DA0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42BD-C899-4130-899F-D4533DC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6576-A102-4688-87E4-0670543D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E57E-808F-4319-B323-D33B0434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3A58B-E7FD-41DB-AE38-E9C4BB2F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7B9-EB4C-47EF-A78B-99882BF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9960-51C8-4726-8394-23A5EBAD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F6BA-328E-4A1A-A5CD-CED8EB1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0905-1FD1-47C1-B3ED-FF132BE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456F-AEB7-4A29-ADB2-7348DA5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5B44-9291-4709-960B-67B15869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DA58-3E4E-47CE-B0C6-B6073B9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D5C1D-3A5F-4AB5-A786-983E340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CA3D-019A-4C6E-9780-A6F827B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1274-B72F-4566-B9C5-32AD3D99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82DB-0DA7-46C1-BA6F-C3E37B09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2D5-59F5-41E7-9D26-FFD71C5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93A4-43C0-4BF3-B223-C9F4BBF1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9C40-CD14-4764-9F31-BB74B5DA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BE7C-B88B-4B91-90C4-CCA565C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BA21-7F45-4F0E-8B94-294AF03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A960-C276-40D1-94B6-7D743B8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3F37-FA03-4CF6-AFB7-878DBD1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6C27-A550-4119-A02A-F2D08427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7FCA-C142-4B8F-9EFD-F8659D0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FB5C-5F42-4768-88E7-4F36B7E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B0D1-D424-4925-AD5D-99511AD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5F1-E643-48B4-A314-3CFB426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8E51-C12E-4666-83E0-81145AB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228B-1246-4826-B526-71BD783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574F-98BA-4E0E-9FBD-8A55851C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F1B9-A81E-4447-8C78-D1E2336E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CED32-5400-44B6-8F9A-FB80FD71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E277-A974-4FC6-999D-E249951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356F-8BE0-4376-BB6C-64848D3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040C-9D37-49F0-AFAA-3046C65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1B9E-2CD2-4528-BA9B-F598EB9E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46002-64CF-46B8-835F-A9F83117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A7B-AF37-4962-AF24-DA48A17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8D63-9660-49B2-9420-A94C58F5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391A-7C54-45AB-AF26-A2000DE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CD8FB-ECA8-4CF8-A6E0-7BF790A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FF16A-45DE-4043-959E-6EE0FBFE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AC11-0971-4CDC-9323-732E85D6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505-1764-4471-AE67-A127F13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C80-D5A0-4C91-AD1D-097576642A72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95E-7063-47B6-ADD4-5D79B465B221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1C64-F824-4CF0-B5E3-A94BAE53F616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B44-3BFF-4C21-AD5D-B41125DA9B70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479-6178-4F5D-950D-DB4703225405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121-65AE-4A1D-A736-D837CD302563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5E8-6CD9-4562-AB5E-CCB874DB33FF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Repaso del semest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Translate the following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I normally get up at 6: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Normalmente me levanto a las seis y me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240" y="15998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Translate the following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We go to bed ea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Nos acostamos tempr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Translate the following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He falls asleep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Él se duerme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hat is the name of verbs that stem-chang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w do these verbs change? Pedir, servir, dec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oot verbs, e - 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ierto o F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Ciento’ is used for numbers greater than 10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C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57a"/>
                </a:solidFill>
                <a:latin typeface="Arial"/>
              </a:rPr>
              <a:t>How do verbs ending in –CAR, -GAR, &amp; -ZAR change in the ‘yo’ form of the preteri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C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G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Z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2133720" y="328608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Q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formula do you use for affirmative tú commands? &amp; for negative comm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Affirmative - He/she 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Negative - yo -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Ø</a:t>
            </a: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 opposite tú 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They like tac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(A ellos les gust</a:t>
            </a:r>
            <a:r>
              <a:rPr b="1" lang="es-ES_tradnl" sz="4000" spc="-1" strike="noStrike" u="sng">
                <a:solidFill>
                  <a:srgbClr val="7fd13b"/>
                </a:solidFill>
                <a:uFillTx/>
                <a:latin typeface="Arial"/>
              </a:rPr>
              <a:t>a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 los tac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How is the present progressive formed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What verb? ___________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______ for –ar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&amp; _______ for – er/-ir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star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- ando &amp; -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My mother should move the furni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Mi madre debe mover los mueb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Las Regl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2 teams / 1 scorek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Everyone writes every answer f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If it is your teams turn, stand if you know the answer. If you are called on and answer correctly, your team gets 1 pt. for each person sta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You can “bluff” and earn pts. for your team even if you don´t know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Most points – W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If you are called on and answer incorrectly, the points go to the oth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Find the three mistakes in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La año pasado yo buscé mi zapatos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año pasado yo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usqué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zapatos 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0" descr=""/>
          <p:cNvPicPr/>
          <p:nvPr/>
        </p:nvPicPr>
        <p:blipFill>
          <a:blip r:embed="rId1"/>
          <a:stretch/>
        </p:blipFill>
        <p:spPr>
          <a:xfrm>
            <a:off x="523800" y="3322800"/>
            <a:ext cx="4876920" cy="203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blackh.DCSD.004\AppData\Local\Microsoft\Windows\Temporary Internet Files\Content.IE5\2N2CEY12\MP900446558[1].jpg"/>
          <p:cNvPicPr/>
          <p:nvPr/>
        </p:nvPicPr>
        <p:blipFill>
          <a:blip r:embed="rId2"/>
          <a:stretch/>
        </p:blipFill>
        <p:spPr>
          <a:xfrm>
            <a:off x="4876920" y="2050920"/>
            <a:ext cx="2952720" cy="382284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3"/>
          <a:stretch/>
        </p:blipFill>
        <p:spPr>
          <a:xfrm>
            <a:off x="1384200" y="4091040"/>
            <a:ext cx="5815080" cy="160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Straight Arrow Connector 5" descr=""/>
          <p:cNvPicPr/>
          <p:nvPr/>
        </p:nvPicPr>
        <p:blipFill>
          <a:blip r:embed="rId1"/>
          <a:stretch/>
        </p:blipFill>
        <p:spPr>
          <a:xfrm>
            <a:off x="1908000" y="4029120"/>
            <a:ext cx="4065840" cy="202392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2"/>
          <a:stretch/>
        </p:blipFill>
        <p:spPr>
          <a:xfrm>
            <a:off x="1305000" y="3425760"/>
            <a:ext cx="3840120" cy="2005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blackh.DCSD.004\AppData\Local\Microsoft\Windows\Temporary Internet Files\Content.IE5\0L7AYIOW\MP900314315[1].jpg"/>
          <p:cNvPicPr/>
          <p:nvPr/>
        </p:nvPicPr>
        <p:blipFill>
          <a:blip r:embed="rId3"/>
          <a:stretch/>
        </p:blipFill>
        <p:spPr>
          <a:xfrm>
            <a:off x="5745240" y="2155680"/>
            <a:ext cx="2347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Straight Arrow Connector 5" descr=""/>
          <p:cNvPicPr/>
          <p:nvPr/>
        </p:nvPicPr>
        <p:blipFill>
          <a:blip r:embed="rId1"/>
          <a:stretch/>
        </p:blipFill>
        <p:spPr>
          <a:xfrm>
            <a:off x="1158840" y="4376880"/>
            <a:ext cx="3687840" cy="117000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3767040"/>
            <a:ext cx="4035600" cy="1420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blackh.DCSD.004\AppData\Local\Microsoft\Windows\Temporary Internet Files\Content.IE5\BG1OMNQG\MC900250839[1].wmf"/>
          <p:cNvPicPr/>
          <p:nvPr/>
        </p:nvPicPr>
        <p:blipFill>
          <a:blip r:embed="rId3"/>
          <a:stretch/>
        </p:blipFill>
        <p:spPr>
          <a:xfrm>
            <a:off x="3962520" y="2627280"/>
            <a:ext cx="3965400" cy="2997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What do these three word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toa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despert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m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4297320" y="2901960"/>
            <a:ext cx="4749840" cy="2614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blackh.DCSD.004\AppData\Local\Microsoft\Windows\Temporary Internet Files\Content.IE5\0L7AYIOW\MC900445692[1].wmf"/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Conjugate the verb </a:t>
            </a: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comer </a:t>
            </a: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in the preterit (past) t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04920" y="3429000"/>
          <a:ext cx="8458200" cy="21034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te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er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xplain the difference between these two seten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estoy lavand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an you sing the irregular affirmative commands tú so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Di haz ve pon sal sé ten 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an you sing the irregular negative commands tú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Des, estés, vayas, sepas, se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1676520"/>
          <a:ext cx="6477120" cy="44193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regular preterit –AR verb end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05120" y="3809880"/>
          <a:ext cx="5105160" cy="201132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4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uatrocientos veinte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is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stove, oven, dishwas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La estufa, el horno, el lavapla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Yesterday I bought two on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Ayer yo compré dos cebol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Find the </a:t>
            </a: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three</a:t>
            </a: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 mistakes in the following set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Ellos limpiasteis el cocina anteayer y limpiaron la mesa tambéi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llo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limpiaron la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cocina anteayer y limpiaron la mesa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ambié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does the following  mean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¡La semana pasada tú cocinaste un almuerzo gra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Last week you cooked a big lunc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14:33Z</dcterms:created>
  <dc:creator>Heather Heffernen</dc:creator>
  <dc:description/>
  <dc:language>en-US</dc:language>
  <cp:lastModifiedBy>Prine, Stephanie</cp:lastModifiedBy>
  <dcterms:modified xsi:type="dcterms:W3CDTF">2014-01-10T17:06:02Z</dcterms:modified>
  <cp:revision>51</cp:revision>
  <dc:subject/>
  <dc:title>Bluff</dc:title>
</cp:coreProperties>
</file>